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6421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cc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440" y="5964120"/>
            <a:ext cx="9144000" cy="900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440" y="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604360" y="6524640"/>
            <a:ext cx="352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fld id="{830B773A-DF52-4CCE-AD46-B1568521C82A}" type="slidenum"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&lt;number&gt;</a:t>
            </a:fld>
            <a:r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-1440" y="5964120"/>
            <a:ext cx="9144000" cy="9003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3"/>
          <a:stretch/>
        </p:blipFill>
        <p:spPr>
          <a:xfrm>
            <a:off x="1440" y="0"/>
            <a:ext cx="9144000" cy="900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8604360" y="6524640"/>
            <a:ext cx="3524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- </a:t>
            </a:r>
            <a:fld id="{58EDBB9B-2F2C-44C4-A636-C3EE65835C2E}" type="slidenum"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&lt;number&gt;</a:t>
            </a:fld>
            <a:r>
              <a:rPr b="1" lang="en-US" sz="1100" spc="-1" strike="noStrike">
                <a:solidFill>
                  <a:srgbClr val="ffffff"/>
                </a:solidFill>
                <a:latin typeface="HY울릉도M"/>
                <a:ea typeface="HY울릉도M"/>
              </a:rPr>
              <a:t> -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47800" y="906480"/>
            <a:ext cx="7900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(한)문화방송"/>
              </a:rPr>
              <a:t>Painter St. Overcros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82760" y="982800"/>
            <a:ext cx="342720" cy="330120"/>
            <a:chOff x="482760" y="982800"/>
            <a:chExt cx="342720" cy="330120"/>
          </a:xfrm>
        </p:grpSpPr>
        <p:sp>
          <p:nvSpPr>
            <p:cNvPr id="80" name=""/>
            <p:cNvSpPr/>
            <p:nvPr/>
          </p:nvSpPr>
          <p:spPr>
            <a:xfrm>
              <a:off x="482760" y="982800"/>
              <a:ext cx="19584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2760" y="1030320"/>
              <a:ext cx="9792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9960" y="1030320"/>
              <a:ext cx="9828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29640" y="1055880"/>
              <a:ext cx="19548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9640" y="1103760"/>
              <a:ext cx="98280" cy="14256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7560" y="1103760"/>
              <a:ext cx="97920" cy="14256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6360" y="1121760"/>
              <a:ext cx="19548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6360" y="1169640"/>
              <a:ext cx="9684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560" y="1169640"/>
              <a:ext cx="9828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514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63640" y="1916280"/>
            <a:ext cx="5113440" cy="25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132000" y="2782800"/>
            <a:ext cx="144720" cy="18003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847800" y="906480"/>
            <a:ext cx="79009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  <a:ea typeface="(한)문화방송"/>
              </a:rPr>
              <a:t>Modeling of West St. On-ram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82760" y="982800"/>
            <a:ext cx="342720" cy="330120"/>
            <a:chOff x="482760" y="982800"/>
            <a:chExt cx="342720" cy="330120"/>
          </a:xfrm>
        </p:grpSpPr>
        <p:sp>
          <p:nvSpPr>
            <p:cNvPr id="95" name=""/>
            <p:cNvSpPr/>
            <p:nvPr/>
          </p:nvSpPr>
          <p:spPr>
            <a:xfrm>
              <a:off x="482760" y="982800"/>
              <a:ext cx="19584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2760" y="1030320"/>
              <a:ext cx="9792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9960" y="1030320"/>
              <a:ext cx="9828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640" y="1055880"/>
              <a:ext cx="19548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640" y="1103760"/>
              <a:ext cx="98280" cy="14256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27560" y="1103760"/>
              <a:ext cx="97920" cy="14256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6360" y="1121760"/>
              <a:ext cx="195480" cy="95400"/>
            </a:xfrm>
            <a:custGeom>
              <a:avLst/>
              <a:gdLst/>
              <a:ahLst/>
              <a:rect l="l" t="t" r="r" b="b"/>
              <a:pathLst>
                <a:path w="433" h="241">
                  <a:moveTo>
                    <a:pt x="0" y="120"/>
                  </a:moveTo>
                  <a:lnTo>
                    <a:pt x="216" y="0"/>
                  </a:lnTo>
                  <a:lnTo>
                    <a:pt x="432" y="120"/>
                  </a:lnTo>
                  <a:lnTo>
                    <a:pt x="216" y="240"/>
                  </a:lnTo>
                  <a:lnTo>
                    <a:pt x="0" y="120"/>
                  </a:lnTo>
                </a:path>
              </a:pathLst>
            </a:custGeom>
            <a:gradFill rotWithShape="0">
              <a:gsLst>
                <a:gs pos="0">
                  <a:srgbClr val="3e6296"/>
                </a:gs>
                <a:gs pos="100000">
                  <a:srgbClr val="ecef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60" y="1169640"/>
              <a:ext cx="9684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0"/>
                  </a:moveTo>
                  <a:lnTo>
                    <a:pt x="216" y="120"/>
                  </a:lnTo>
                  <a:lnTo>
                    <a:pt x="216" y="360"/>
                  </a:lnTo>
                  <a:lnTo>
                    <a:pt x="0" y="240"/>
                  </a:lnTo>
                  <a:lnTo>
                    <a:pt x="0" y="0"/>
                  </a:lnTo>
                </a:path>
              </a:pathLst>
            </a:custGeom>
            <a:solidFill>
              <a:srgbClr val="9ec1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3560" y="1169640"/>
              <a:ext cx="98280" cy="143280"/>
            </a:xfrm>
            <a:custGeom>
              <a:avLst/>
              <a:gdLst/>
              <a:ahLst/>
              <a:rect l="l" t="t" r="r" b="b"/>
              <a:pathLst>
                <a:path w="217" h="361">
                  <a:moveTo>
                    <a:pt x="0" y="360"/>
                  </a:moveTo>
                  <a:lnTo>
                    <a:pt x="216" y="240"/>
                  </a:lnTo>
                  <a:lnTo>
                    <a:pt x="216" y="0"/>
                  </a:lnTo>
                  <a:lnTo>
                    <a:pt x="0" y="120"/>
                  </a:lnTo>
                  <a:lnTo>
                    <a:pt x="0" y="360"/>
                  </a:lnTo>
                </a:path>
              </a:pathLst>
            </a:custGeom>
            <a:solidFill>
              <a:srgbClr val="3e6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5146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4365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79280" y="4869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627280" y="249228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4292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508640"/>
            <a:ext cx="360360" cy="36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2708280"/>
            <a:ext cx="360360" cy="361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rot="19906800">
            <a:off x="611280" y="2923920"/>
            <a:ext cx="7488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5724360" y="2927520"/>
            <a:ext cx="144720" cy="1800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2349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7236000" y="76500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678080" y="829440"/>
            <a:ext cx="502920" cy="424800"/>
            <a:chOff x="7678080" y="829440"/>
            <a:chExt cx="502920" cy="424800"/>
          </a:xfrm>
        </p:grpSpPr>
        <p:sp>
          <p:nvSpPr>
            <p:cNvPr id="117" name=""/>
            <p:cNvSpPr/>
            <p:nvPr/>
          </p:nvSpPr>
          <p:spPr>
            <a:xfrm rot="19377600">
              <a:off x="8043840" y="846360"/>
              <a:ext cx="1047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7678080" y="1170720"/>
              <a:ext cx="82800" cy="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7970040" y="950400"/>
              <a:ext cx="82800" cy="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60880" y="1170720"/>
              <a:ext cx="12924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01920" y="1050480"/>
              <a:ext cx="213480" cy="10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7801200" y="1050480"/>
              <a:ext cx="885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7969680" y="1012680"/>
              <a:ext cx="45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82120" y="4737240"/>
            <a:ext cx="473400" cy="381600"/>
            <a:chOff x="582120" y="4737240"/>
            <a:chExt cx="473400" cy="381600"/>
          </a:xfrm>
        </p:grpSpPr>
        <p:sp>
          <p:nvSpPr>
            <p:cNvPr id="125" name=""/>
            <p:cNvSpPr/>
            <p:nvPr/>
          </p:nvSpPr>
          <p:spPr>
            <a:xfrm rot="8960400">
              <a:off x="613440" y="4956480"/>
              <a:ext cx="92160" cy="149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977400" y="4797000"/>
              <a:ext cx="781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00560" y="4960800"/>
              <a:ext cx="7848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860400" y="4737240"/>
              <a:ext cx="11700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flipV="1">
              <a:off x="741600" y="4807800"/>
              <a:ext cx="194040" cy="14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0400" y="4737600"/>
              <a:ext cx="7524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1240" y="4808160"/>
              <a:ext cx="381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772400" y="155736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6600"/>
                </a:solidFill>
                <a:latin typeface="Arial"/>
              </a:rPr>
              <a:t>zerolengthEle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8101080" y="1125360"/>
            <a:ext cx="287280" cy="5032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515772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ff6600"/>
                </a:solidFill>
                <a:latin typeface="Arial"/>
              </a:rPr>
              <a:t>zerolengthEle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276720" y="4723920"/>
            <a:ext cx="1008000" cy="5050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29973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5661000"/>
            <a:ext cx="867564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oth abutments are modeled with six DOF springs, but rotations along Z and X axis are fixed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olumn ends are modeled with 6 Dof spring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ap beam which connects column and deck is modeled with rigid beam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ayleigh damping coefficients are computed assuming 5% damping ratio of first and third 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2782800"/>
            <a:ext cx="2447640" cy="1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4465800" y="274644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8244000" y="836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987640" y="5157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651640" y="5300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779640" y="2133720"/>
            <a:ext cx="144360" cy="647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3995640" y="2060640"/>
            <a:ext cx="1440000" cy="86364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651280" y="4724280"/>
            <a:ext cx="216000" cy="576000"/>
            <a:chOff x="5651280" y="4724280"/>
            <a:chExt cx="216000" cy="576000"/>
          </a:xfrm>
        </p:grpSpPr>
        <p:sp>
          <p:nvSpPr>
            <p:cNvPr id="146" name=""/>
            <p:cNvSpPr/>
            <p:nvPr/>
          </p:nvSpPr>
          <p:spPr>
            <a:xfrm rot="5400000">
              <a:off x="5743080" y="5176440"/>
              <a:ext cx="1047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5640" y="472428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95640" y="509004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5651280" y="4827960"/>
              <a:ext cx="14436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651280" y="4933080"/>
              <a:ext cx="215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51640" y="4880880"/>
              <a:ext cx="215640" cy="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51640" y="5038200"/>
              <a:ext cx="144360" cy="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058920" y="4581360"/>
            <a:ext cx="216000" cy="576000"/>
            <a:chOff x="3058920" y="4581360"/>
            <a:chExt cx="216000" cy="576000"/>
          </a:xfrm>
        </p:grpSpPr>
        <p:sp>
          <p:nvSpPr>
            <p:cNvPr id="154" name=""/>
            <p:cNvSpPr/>
            <p:nvPr/>
          </p:nvSpPr>
          <p:spPr>
            <a:xfrm rot="5400000">
              <a:off x="3150720" y="5033520"/>
              <a:ext cx="10476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03280" y="458136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03280" y="4947120"/>
              <a:ext cx="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058920" y="4685040"/>
              <a:ext cx="144360" cy="5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058920" y="4790160"/>
              <a:ext cx="21564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59280" y="4737960"/>
              <a:ext cx="215640" cy="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59280" y="4895280"/>
              <a:ext cx="144360" cy="5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V="1">
            <a:off x="5003640" y="4868640"/>
            <a:ext cx="576360" cy="3603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236000" y="3500280"/>
            <a:ext cx="431640" cy="4334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7236000" y="3357720"/>
            <a:ext cx="0" cy="57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59280" y="3860280"/>
            <a:ext cx="576360" cy="73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492360" y="17733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Rigid bea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7596360" y="321300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6372360" y="357336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2:50:57Z</dcterms:created>
  <dc:creator>최윤석</dc:creator>
  <dc:description>Guild Design에서 제공하는 PowerPoint 97, 2000, 2002용 디자인 템플릿입니다.</dc:description>
  <dc:language>en-US</dc:language>
  <cp:lastModifiedBy>'</cp:lastModifiedBy>
  <dcterms:modified xsi:type="dcterms:W3CDTF">2010-05-16T16:15:50Z</dcterms:modified>
  <cp:revision>625</cp:revision>
  <dc:subject>키오스크형 디자인</dc:subject>
  <dc:title>PowerPoint Template</dc:title>
</cp:coreProperties>
</file>